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1920" y="270504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46600" y="270504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8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1880" y="355680"/>
            <a:ext cx="10820520" cy="111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1880" y="1460160"/>
            <a:ext cx="10820520" cy="76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18000"/>
          </a:bodyPr>
          <a:p>
            <a:pPr marL="615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marL="61560" indent="-6156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marL="61560" indent="-61560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marL="61560" indent="-6156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marL="61560" indent="-61560" algn="ctr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marL="61560" indent="-6156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marL="61560" indent="-6156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1"/>
          <p:cNvSpPr/>
          <p:nvPr/>
        </p:nvSpPr>
        <p:spPr>
          <a:xfrm>
            <a:off x="787320" y="762120"/>
            <a:ext cx="11430000" cy="8204040"/>
          </a:xfrm>
          <a:prstGeom prst="roundRect">
            <a:avLst>
              <a:gd name="adj" fmla="val 926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091880" y="1383840"/>
            <a:ext cx="1082052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spcBef>
                <a:spcPts val="4799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739800" indent="-417240">
              <a:spcBef>
                <a:spcPts val="4799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157760" indent="-417600">
              <a:spcBef>
                <a:spcPts val="4799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575720" indent="-417600">
              <a:spcBef>
                <a:spcPts val="4799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993320" indent="-417240">
              <a:spcBef>
                <a:spcPts val="4799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993320" indent="-417240">
              <a:spcBef>
                <a:spcPts val="4799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993320" indent="-417240">
              <a:spcBef>
                <a:spcPts val="4799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91880" y="225000"/>
            <a:ext cx="10820520" cy="204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91880" y="3466800"/>
            <a:ext cx="10820520" cy="283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Palatin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39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91880" y="190080"/>
            <a:ext cx="10820520" cy="21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091880" y="2309760"/>
            <a:ext cx="10820520" cy="66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78732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31920" indent="-44460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76520" indent="-44460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076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076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076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08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308520" indent="-3085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308520" indent="-3085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308520" indent="-3085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308520" indent="-3085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308520" indent="-3085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308520" indent="-3085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35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335880" indent="-335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82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485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35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335880" indent="-335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335880" indent="-33588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335880" indent="-33588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8381880"/>
            <a:ext cx="9194760" cy="470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04760" y="8788320"/>
            <a:ext cx="9194760" cy="419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rmAutofit fontScale="17000"/>
          </a:bodyPr>
          <a:p>
            <a:pPr marL="583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1" marL="58320" indent="-58320">
              <a:buClr>
                <a:srgbClr val="ffffff"/>
              </a:buClr>
              <a:buFont typeface="Palatino Bold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2" marL="58320" indent="-58320">
              <a:buClr>
                <a:srgbClr val="ffffff"/>
              </a:buClr>
              <a:buFont typeface="Palatino Bold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3" marL="58320" indent="-58320">
              <a:buClr>
                <a:srgbClr val="ffffff"/>
              </a:buClr>
              <a:buFont typeface="Palatino Bold Ital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4" marL="58320" indent="-58320">
              <a:buClr>
                <a:srgbClr val="ffffff"/>
              </a:buClr>
              <a:buFont typeface="Palatino Bold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5" marL="58320" indent="-58320">
              <a:buClr>
                <a:srgbClr val="6d6d6d"/>
              </a:buClr>
              <a:buFont typeface="Palatino Bold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6" marL="58320" indent="-58320">
              <a:buClr>
                <a:srgbClr val="6d6d6d"/>
              </a:buClr>
              <a:buFont typeface="Palatino Bold Ital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39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91880" y="0"/>
            <a:ext cx="10820520" cy="250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-44460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78732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31920" indent="-44460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76520" indent="-44460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076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076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0760" indent="-44424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39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1880" y="190080"/>
            <a:ext cx="10820520" cy="21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092240" y="2309760"/>
            <a:ext cx="5270400" cy="66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37332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6132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3464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0796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39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1880" y="190080"/>
            <a:ext cx="10820520" cy="21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41640" y="2309760"/>
            <a:ext cx="5270760" cy="66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37332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6132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3464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0796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91880" y="190080"/>
            <a:ext cx="10820520" cy="21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092240" y="2309760"/>
            <a:ext cx="5270400" cy="663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37332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6132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3464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07960" indent="-37332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781280" indent="-372960">
              <a:spcBef>
                <a:spcPts val="3200"/>
              </a:spcBef>
              <a:buClr>
                <a:srgbClr val="6d6d6d"/>
              </a:buClr>
              <a:buSzPct val="51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2240" y="1638360"/>
            <a:ext cx="5270400" cy="3238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092240" y="4863600"/>
            <a:ext cx="5270400" cy="3327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marL="260640" indent="-26064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marL="260640" indent="-260640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marL="260640" indent="-260640" algn="ctr">
              <a:buClr>
                <a:srgbClr val="ffffff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marL="260640" indent="-260640" algn="ctr">
              <a:buClr>
                <a:srgbClr val="ffffff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marL="260640" indent="-26064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marL="260640" indent="-260640" algn="ctr">
              <a:buClr>
                <a:srgbClr val="6d6d6d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ell Ringer: 10-16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873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ch social class was most important to life in Ancient Egyp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73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73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ich Social Class in Ancient Egypt would you want to be a part of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Osiris </a:t>
            </a:r>
            <a:r>
              <a:rPr b="1" lang="en-US" sz="28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12520" y="2387520"/>
            <a:ext cx="10464840" cy="725184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rmAutofit fontScale="80000"/>
          </a:bodyPr>
          <a:p>
            <a:pPr marL="253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mummified man wearing a white cone-like headdress with feather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53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god of the dead, resurrection. ruler of the underworl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53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53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rother/husband of Isis, and the brother of Nepthys and Seth. He was also the father of Horus.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53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53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53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53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n fact, the ancient Egyptians believed that Osiris gave them the gift of barley, one of their most important crops.</a:t>
            </a: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OC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873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g 27: Mythical Cre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732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g 28: Religion c-no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91880" y="-360"/>
            <a:ext cx="10820520" cy="4165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2520" tIns="38160" bIns="38160" anchor="ctr">
            <a:noAutofit/>
          </a:bodyPr>
          <a:p>
            <a:pPr marL="1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  <a:ea typeface="Papyrus"/>
              </a:rPr>
              <a:t>Ancient Egyptian gods/goddesses </a:t>
            </a:r>
            <a:endParaRPr b="0" lang="en-US" sz="40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91880" y="4495680"/>
            <a:ext cx="10820520" cy="3200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ahoma"/>
                <a:ea typeface="Tahoma"/>
              </a:rPr>
              <a:t>Intro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3800" y="2184120"/>
            <a:ext cx="12890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712"/>
                </a:solidFill>
                <a:latin typeface="Tahoma"/>
                <a:ea typeface="Tahoma"/>
              </a:rPr>
              <a:t>Ancient Egyptians worship 2000 different gods S(Polythestic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712"/>
                </a:solidFill>
                <a:latin typeface="Tahoma"/>
                <a:ea typeface="Tahoma"/>
              </a:rPr>
              <a:t>Akenation tried to change relig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How Gods Dress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unic with suspenders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Dress with suspenders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he short loincloth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he short-sleeved overal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he full-length dres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33308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Ra (Re) 'Sun'</a:t>
            </a:r>
            <a:r>
              <a:rPr b="1" lang="en-US" sz="36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12293280" cy="86104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rmAutofit fontScale="66000"/>
          </a:bodyPr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0952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Man w) hawk head &amp; headdress w) sun disk</a:t>
            </a:r>
            <a:r>
              <a:rPr b="1" lang="en-US" sz="3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20952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un</a:t>
            </a:r>
            <a:r>
              <a:rPr b="1" lang="en-US" sz="3600" spc="-1" strike="noStrike">
                <a:solidFill>
                  <a:srgbClr val="f3eb00"/>
                </a:solidFill>
                <a:latin typeface="Lucida Grande"/>
                <a:ea typeface="Lucida Grande"/>
              </a:rPr>
              <a:t> </a:t>
            </a:r>
            <a:r>
              <a:rPr b="1" lang="en-US" sz="36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god.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0952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Most important god of ancient Egyptians.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0952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a  was swallowed every night by the sky goddess Nut, &amp; reborn every morning.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0952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raveled through the underworld at night.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20952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0952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n the underworld, Ra appeared as a man with the head of a ram.</a:t>
            </a:r>
            <a:r>
              <a:rPr b="1" lang="en-US" sz="3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Amun</a:t>
            </a:r>
            <a:r>
              <a:rPr b="1" lang="en-US" sz="3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:</a:t>
            </a:r>
            <a:r>
              <a:rPr b="1" lang="en-US" sz="28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rmAutofit fontScale="74000"/>
          </a:bodyPr>
          <a:p>
            <a:pPr marL="2347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Man with a ram-head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47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Man wearing an ostrich plumed hat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47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One of most powerful gods in ancient Egypt--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47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'King of the Gods'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47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                    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mportant throughout Egyptian history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4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2347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hen Amun was combined with the sun god Ra(Re) he was even more powerful. Amun-Ra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4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2347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large and important temple was built at Thebes to honor Amun.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dcc"/>
                </a:solidFill>
                <a:uFillTx/>
                <a:latin typeface="Lucida Grande"/>
                <a:ea typeface="Lucida Grande"/>
              </a:rPr>
              <a:t>Anubi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rmAutofit fontScale="46000"/>
          </a:bodyPr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Man with a jackal head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jackal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145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god of embalming and the dead</a:t>
            </a:r>
            <a:r>
              <a:rPr b="1" lang="en-US" sz="3200" spc="-1" strike="noStrike">
                <a:solidFill>
                  <a:srgbClr val="f3eb00"/>
                </a:solidFill>
                <a:latin typeface="Lucida Grande"/>
                <a:ea typeface="Lucida Gran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45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ince jackals were often seen in cemeteries, the ancient Egyptians believed that Anubis watched over the dead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145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elped to embalm Osiris after he was killed by Seth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145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Watched over the process of mummifying people when they died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458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Priests often wore a mask of Anubis during mummification ceremonies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Isis</a:t>
            </a:r>
            <a:r>
              <a:rPr b="1" lang="en-US" sz="3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:</a:t>
            </a:r>
            <a:r>
              <a:rPr b="1" lang="en-US" sz="28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75880" y="1612440"/>
            <a:ext cx="10464840" cy="65278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rmAutofit fontScale="58000"/>
          </a:bodyPr>
          <a:p>
            <a:pPr marL="183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83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83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83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oman w) headdress in the shape of a throne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83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pair of cow horns with a sun disk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83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183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Protective goddess.                                           </a:t>
            </a:r>
            <a:r>
              <a:rPr b="1" lang="en-US" sz="25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She used powerful magic spells to help people in need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183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 marL="183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sis was wife of Osiris and the mother of Horus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83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83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ince each pharaoh was considered the 'living Horus', Isis was very important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83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183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sis is often shown holding Horus on her lap. Isis is associated with thrones because her lap was the first 'throne' that Horus sat upon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44fe"/>
                </a:solidFill>
                <a:uFillTx/>
                <a:latin typeface="Lucida Grande"/>
                <a:ea typeface="Lucida Grande"/>
              </a:rPr>
              <a:t>Horus “The One Far Above”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64800" y="2629080"/>
            <a:ext cx="10464840" cy="64260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rmAutofit fontScale="41000"/>
          </a:bodyPr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Man with the head of a hawk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 hawk</a:t>
            </a:r>
            <a:r>
              <a:rPr b="1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god of the Sky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Most well-known as protector of the ruler of Egypt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gyptians believed pharaoh was the 'living Horus'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Many different beliefs about Horus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ommon belief: Horus was son of Isis &amp; Osiris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fter Osiris was murdered by his brother Seth, Horus fought with Seth for the throne of Egypt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1299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12996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In this battle, Horus lost one of his eyes. The eye was restored to him and it became a symbol of protection for the ancient Egyptians. After this battle, Horus was chosen to be the ruler of the world of the living.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0-16T12:10:44Z</dcterms:modified>
  <cp:revision>4</cp:revision>
  <dc:subject/>
  <dc:title>Bell Ringer: 10-16</dc:title>
</cp:coreProperties>
</file>